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239-8044-4ECA-A8A0-EF190803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15F-70EF-4C79-B7F3-EA607EB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A106-77FB-4DCD-A648-4BCFB3B6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C086E-C8FA-44E0-A2E2-7CCD449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FE7E-D81E-4218-BDD8-64A358E3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7B6A8-4B9A-4071-B32B-EBFDE5C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4AD5-ACA1-4239-83EF-861D04B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3251E-8C13-4CB9-8352-51BEC03D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C2C83-E855-4F61-9097-4B730266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05B96-A11F-4E6C-AC9F-7BCFD2B6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7D0E7-DD37-4DAF-9493-3D7A3FA6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B5730-7529-4001-80AC-F7B5BFC3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7E7-4E4E-41BA-91AB-3C9EBB7C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0AF39-C296-4304-84F7-CBDC6DB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9B5B9-43DC-4696-BFE1-052E40A3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8F595-0203-44D4-AC10-DEC2570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F0FBF-70F8-42D3-BEAC-0AD9A64E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A5FCC-5790-4A5E-A160-A62C93F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5C3A-7CC4-488A-AFD1-AAE6215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0E2A2-4505-4652-93B6-8AEFFCC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CB58B-C7A5-4476-92D6-DE3A894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A1FAB-DC91-424E-9F8A-33F438EA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5AB3E-1D6E-4B43-A6F8-D18F43BA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D0E-FE7D-4239-B77C-C43DCBF1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C4E26-0454-450D-A805-210462FD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A604-2ACE-417C-A440-C7B643F1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605C-BD69-4E7A-B22F-4B1B45F6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076E1-959D-4457-8F99-473E21E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211ED-611C-46D8-9FA3-DACD3293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DFF5-3558-490A-B615-8E04B9BF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0D9E9-B42C-4BCD-8213-B69483F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E747-6D35-4190-9599-4DFA3BD2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BC5DE-A24A-41CC-AA5C-DE19FAF3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D1C7-C742-418F-9693-6AD1520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457E-3ACE-4863-90A1-7D6A1A7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2D75A-D321-45AB-82DC-FA5BFAB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F4ED2-68B4-445F-BA95-32F4847F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ED41-B6B8-4199-8492-9382C1C4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0CE62-155E-4451-B93C-A821EEE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4A305-FEC4-4E62-B8B6-9E1B88E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D2CD2-4FFE-444B-A9E1-39CD51B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4D0F2-7181-46AC-BC5C-669A56C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8A2ED-3497-48A3-ADD8-8BAD59A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47C16-85D8-4052-9FF4-AC90A71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91CD8-AFEA-4A3A-8A8F-0280C69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C91-60B9-4A32-9441-03C4C97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D8CFE-C47A-4461-8D85-8E94CDE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38A0-510B-496A-B5AF-8B416D8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11697-51DE-45E2-902C-75E45EA8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8E91-6D88-4AD5-9B29-B917F1BE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3F7C6-80F9-4EB2-9669-689DB36C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9DEBE-E4AC-4DCA-90E5-76A94E8A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46FBF-05DE-4913-A20D-0C84428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682A8-7A00-4AD6-AC78-68D9602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898F9-1D5C-4108-95E6-50D03E75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2C1DE-75BA-4F33-A62A-48D0F578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5DC-03A0-4DF2-B28D-A18A3E5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C5BDC-46CB-4A18-B30E-451AF7D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23DD2-C1A2-4DA4-819C-1C30EC7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96ECA-314F-4823-936D-E9FB977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E3FE0-9AE5-4CD0-802E-A116732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F71E0-628B-4C92-97CC-C05D998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93703-3F24-4456-9689-F466CD8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1BA08-9EEA-470E-829A-31E7293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C2ABC-7C9D-46CD-B5B5-E1BAE5F6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7E4DA-0650-4982-9F92-8D9408BA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38010-BC8D-48C5-9D17-1908771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40FD-A434-4263-87C7-86523B6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AE39A-4D62-418A-BF30-75392BEB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27225-1EE9-4BC7-8F13-7F65CB04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506D9-B70F-40BE-B3DE-1E14AFB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5A723-9499-48C8-A2E0-4C36602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E831-D7F3-41F2-A827-FAAF9A7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E4446-EDC7-4114-951C-DBE3824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24A79-BAF0-4A9A-964B-229C6B2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D3DE5-D25D-4FB6-9B23-BF7E4CD9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9A07B-E9D8-4C5F-94A5-85E19F62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363DC-DA92-4486-A142-C20159D7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503-6ABB-42B4-AE5E-4377C4A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43D47-8661-4281-85B3-722694A4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D33DE-6836-4F24-807A-432B1CB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2C0C2-B05E-4C08-95E6-329B7AF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01EC1-AE8B-4133-AF4C-5C468635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90CBA-C705-4710-A181-1A2A3488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3E2D3-D153-42BD-AF19-CC7249A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017C5-86D5-42B7-B210-9F5C3FC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F8D5D-2468-49BC-9147-53A2773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D494D-182D-49EB-9028-0C0347D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5B1C8-4FBF-4D1F-922F-5CD53DF6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6E5-1563-4FA0-9C76-E3B919D0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3533E-51AB-4B34-B832-857ED8A7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483C6-7212-43BA-8ACF-1C6A2AC7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1633C-3515-4192-88CE-77E2AC8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8D65D-9896-4B3F-AE54-31D3E83B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A49E6-5D8F-4197-96F8-31501DD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12D5C-2937-4129-91BF-F51B5B9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DB3B5-8A72-4398-8E18-1812497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63D25-E592-4DF0-9968-7CBB0F9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A8F06-7DC4-4DD8-AABF-6940339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EB650-AA30-47AC-A876-9CA0E29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B785-BD85-4E42-8DEF-972AE906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8E185-A2B7-480A-9D65-6B2386B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58162-B75D-452A-ABAA-3E3BD9C2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AD81B-B7B9-4146-9600-C7AE7FFA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4E5DE-7F17-4105-8E7C-22DBD8EC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2CAB7-AE56-47FB-AF09-2205FD9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B4940-7A76-4254-9702-FC2E176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953AB-3B8D-4691-8340-7BA5797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92218-6994-4319-9AB7-93AA798A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431A1-4E53-421C-A857-62F0501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6F259-CD2E-4B93-AF80-AA7AB51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C4A-5158-43E5-AF74-08C84D4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6F5A-B44D-4306-8B1F-377476D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1B057-D676-4E3A-B2B1-A4901C3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68350-6898-4462-B92B-EC8BE72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FC679-18AB-4B2D-8B44-0FEC055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AA741-E6CF-4E52-AA15-5CA3EDB4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84418-F189-4F28-94D0-10498606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3D308-1586-4E3F-A4E9-B92850E4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A8AA4-6DB9-492D-BD05-1FE7E81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AF500-6F84-4F13-9663-C548FBF3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F33E5-2275-4780-BF16-9569E5F3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99123-9933-4D8E-9784-78EA0FB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664E-0CF5-4576-BA9E-A5A3490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8C0C3-21FB-4C39-8F9F-D421FBB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9C5C9-B34D-4495-B9B7-A674690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7CD01-112C-4D3F-8809-CB45046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9E05D-30FF-4F28-B408-6C4902F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EE316-4550-453A-BD8E-EF08FA0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CFCE2-1AC4-43CE-A957-9464E316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7A0A9-5D85-4F1D-AEC8-B01357C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C522F-8EA5-4372-AFBF-88BDF592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1AC5E-7C53-4954-8299-911614D5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58129-7A46-4D6D-BD1A-88BFFB4B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F03A-1A80-44F4-B067-F357A09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E7A4E-9D24-4C0D-80C6-64DEC1F4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D62DF-C82B-47E3-8E56-C544DF3A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0947C-65A0-4EE9-964E-EED02912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6F1D9-889C-43E4-B8D6-2340E304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C5C5F-5C3C-4402-BAF0-2AA8F8A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95F28-BD11-44FE-B742-92B0405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7215D-555F-4A96-AB5A-89598894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AE936-AF11-49BE-A6C1-FD57537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599B7-975B-41FA-B0DB-3AC1779E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C8554-9F65-4EDB-9509-D879A689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3D7-A0D5-415C-9A57-1B431E6C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CCD31-F31A-4724-8811-92D88B5B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3BE28-36EC-4E58-9620-5C824871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F2AB5-0C5B-4CC2-A5C3-775CCA1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3AE78-7BC9-4E6D-8D96-716F6454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F1657-824B-45C7-A128-30CCE11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50041-8A53-4BC4-AD0F-830BEB8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19C1E8-8DDD-46C5-8625-9D33A20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6E586-404A-46EB-8A45-BEA60F4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04868-26E1-4AC7-BD64-B5B1389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3AF1B-D015-419E-971E-029468D6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23E-1353-4FED-BBDD-F54F4AD5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6418C-DA67-4466-BBE8-57CE1751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1ACDB-DF41-4182-B04A-A6E23A4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91CD5-0958-44BE-AC42-0B6762E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0EACA-9C25-4D92-8F5E-7B37AD7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C6A03-79BC-4DA8-A6FF-065685C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8D605-BB46-4111-81CF-2428261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06C07-AB3D-4E51-BAA2-77A9ED5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6BF91-5955-4EF8-8425-9EE0102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72C3B-D4C0-4114-B3CF-454D7014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E9250-18CB-42B2-8575-854A08E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8609-0E56-487D-8542-6D353319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47231-821D-4547-8599-8E4CDE9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53455-EC1C-4930-A387-397B7171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B8B31-D876-4DA9-9FF8-D41E444F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8C02-49B2-46B1-A4F1-AA3B6FC9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376F-2A49-4907-9105-39BD5196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178B-48B0-4C57-B3E4-096ED29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6E9B-58C0-4425-B676-6A7E029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E05-95EB-427D-8AC1-6C9955B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AECA-D579-4126-8BB7-A855922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05ED-811A-4310-9DAD-81ADEE7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3903-496F-4E4D-BBDF-866E614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D345-BB21-4C27-A983-ED954E0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084B-8B0E-4D72-AC9A-EF3CB0F5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8385-E1D5-4202-9494-F48F6E17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52D7-0DFD-4A90-8E6B-04FE631B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C378-780F-4F05-B500-5B90E5B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0AED-5301-4D72-86C1-D0D9DF4B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8C65-1E53-4F1C-A321-ACB60C3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E51-3072-4D89-AABE-318D7C6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E657-1301-4618-BC20-32CC481B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D571-509E-40FF-8108-439D6C29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9EE7-BE77-40B9-87C5-5842E0C2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F32A-263E-48ED-B14F-BB4B2A8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D041-E25F-4C53-8D7C-C73A9AB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6C3C-8FE3-4CBB-9244-212F93C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9602-9894-4DDD-A323-990E2E51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EE9F-D467-4BED-8F5F-B93EDD61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F66E-E8CC-4FC1-BC6A-4BF03E8F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BD70-904B-4DA8-8AEE-EDFF6DA1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69C-4B34-47E1-ADCA-9D4FFA4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C8F9-8B27-44AE-87D4-E1C9E89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EC0F-D2DB-4002-A0DC-CD80D82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753BE-DAE4-4AAF-9C04-E8760E8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62777-C2AD-4384-AA27-B1454E6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8448-D01A-41C3-92C4-8D8618B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BE7B-9D84-468A-8B30-982E386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9E163-BB5E-4365-B2AA-07DCBD8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AF46-EEA6-4BA5-9A5E-3E51B86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F30A-A612-46B1-A074-61D8ABF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54D3-238D-4EA2-B74E-71F81502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4FD-0410-414F-B169-3A3391F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8163-DB14-43ED-8B10-5BC81A66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2FCD-F8E7-4132-AC0F-FCAFED2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0C30-F74D-450F-B2F3-0C148C0B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B763-7DBE-4FBC-B625-7F60E62B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3EFD-9C59-4725-801E-4CA3ED86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A4771-9E7A-4BB9-809B-4CE6B58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8AA04-AF33-4F80-8AC9-D9EDD6E2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65CF-63AB-4E05-B780-8BBE8D0D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1967-C8F0-41D3-B0C8-46036CF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349C-4EFA-44F3-9428-E6F59CA7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763-5910-4143-AD46-5894248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0C32-D00C-4DD1-981E-9088F3E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23A4-6468-43BC-B4A8-DAA864D0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0E2C-8741-4916-AD46-97EF7BBB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2F89B-6FD0-4592-A640-31D37C6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577D-8FEE-460B-B8B4-B922183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5121-824A-425A-BE52-B0A7EE7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E28B-D6F2-4432-9A20-96B6709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92134-F4C9-4749-8095-641562B6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DDD5-44DC-48F5-8F67-9EF12BB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0754-D090-45BC-93EB-6768AB3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33E-ACF1-49D6-8FB8-11118C9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C8DA-D052-46F2-B386-FFAFA568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0827-896E-4A36-8000-09A918D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D961-B376-43C9-92DE-01B1F79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DC23E-C151-41B0-B619-10F996C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9B1A-311F-42DF-9262-92C6C8C9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EA72-34AC-438E-8965-96274C98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19E79-F7F4-473B-AA16-41233EF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DDA2-8DA3-422B-AB64-9D835BCA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99F8-E7D2-4D90-B5ED-4EB2C292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A1F1-FACA-47F2-9CFA-FA70EAE7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E35-B066-446B-9BF9-CA82740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16E3-D0E2-49C9-A41E-4F66514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187D-BE35-414A-B59D-C928D49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FD403-5A31-4B57-BEBC-3145833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8FBC-FC97-4A9F-9D89-EBBF56B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2773F-612C-4489-831B-0353023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A057-06ED-43DA-911E-F92BF00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2E14-432A-4C85-9E29-BEB150E7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B6B2E-B2BD-4CBD-88E3-888DEB65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D4895-1884-45C4-B283-7FE8C99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BB3F-721F-4C6F-A48B-DCE6D79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8BFF-0D89-4526-8E44-F788B22FC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78BA-026E-4111-8AF8-89DCFE47A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9C5-9069-4DFC-BFE8-2F09805A1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0E3-F9AA-4872-A2C8-538B981BC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CAF-5477-481E-83D7-DF5EB1E9AE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3D3-F31E-4EA9-B49E-9780AFF39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F125-8E8B-4258-A65F-10345D2E1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4D7-286F-4A7A-ABBA-7911BDD81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5E5-4585-4F2B-BCB1-2A88086F5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E95-7581-4AE7-9E02-920663871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B3D3-DB6C-4B34-972B-F1E61C57E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F09-46C2-4644-B53E-9E7D59FBE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D795-D8F6-4FDB-9FC1-099123EF3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68A-5C9E-459B-96B4-7EB1A7564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8720-4EF7-407C-A88B-4519F121C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F38-11B1-4063-928F-5DB8C58781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51A-0C50-4032-8088-59E0C1D6E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C556-886E-435B-A4DB-5472E0748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11A4-5BB9-45F1-AAF1-484EA0609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FA5B-5043-4520-8A6A-681A00566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20E-3AEB-4910-BD01-0FC8CEC01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853-574B-4C23-A6AB-2C5CF72BF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E729-9253-4BFC-B522-306C7C8D97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CA6-B848-4AB7-A265-09EF741C5C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71E6-3538-4AD6-BFB7-569B18874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FA8E-1417-4F9C-88A2-61E98EA8F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4098-4255-434D-953A-9F10F4BD0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3B5-9D69-4C84-B269-9227F1CD0D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DE2-1672-4962-9F2F-B05FF5610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D4A-9B65-4602-877D-881017923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D0E-F5BC-4252-A610-09D3DB816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DB8-FBB8-47DD-826D-7F2B2A073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08C-26B5-414C-90C8-14F38DCC5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EBB-484A-4511-9A64-E831097A0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F0B-BE5B-4B07-A55F-1FE3AB327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A96-3E27-4DE6-A423-7510E47AC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4AF9-1776-48FB-B1A7-4510DFBC4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C375-A7F6-480D-BB87-EE25ADFF7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2B1-7BE8-450B-9E78-91FEFC25B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2D7-7156-47C9-A345-FB1DE4184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52680" y="2205000"/>
            <a:ext cx="6038640" cy="7812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2604960" y="3371760"/>
            <a:ext cx="3934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69635"/>
          <p:cNvGrpSpPr/>
          <p:nvPr/>
        </p:nvGrpSpPr>
        <p:grpSpPr>
          <a:xfrm>
            <a:off x="795240" y="44280"/>
            <a:ext cx="8169480" cy="6785280"/>
            <a:chOff x="795240" y="44280"/>
            <a:chExt cx="8169480" cy="6785280"/>
          </a:xfrm>
        </p:grpSpPr>
        <p:pic>
          <p:nvPicPr>
            <p:cNvPr id="1051" name="图片 69633" descr=""/>
            <p:cNvPicPr/>
            <p:nvPr/>
          </p:nvPicPr>
          <p:blipFill>
            <a:blip r:embed="rId1"/>
            <a:stretch/>
          </p:blipFill>
          <p:spPr>
            <a:xfrm>
              <a:off x="795240" y="44280"/>
              <a:ext cx="8169480" cy="590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图片 69634" descr=""/>
            <p:cNvPicPr/>
            <p:nvPr/>
          </p:nvPicPr>
          <p:blipFill>
            <a:blip r:embed="rId2"/>
            <a:stretch/>
          </p:blipFill>
          <p:spPr>
            <a:xfrm>
              <a:off x="1158840" y="5999040"/>
              <a:ext cx="712944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101080" y="99540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8609" descr=""/>
          <p:cNvPicPr/>
          <p:nvPr/>
        </p:nvPicPr>
        <p:blipFill>
          <a:blip r:embed="rId1"/>
          <a:stretch/>
        </p:blipFill>
        <p:spPr>
          <a:xfrm>
            <a:off x="214200" y="204840"/>
            <a:ext cx="8715600" cy="6448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116000" y="1239840"/>
            <a:ext cx="1152360" cy="444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5867280" y="1816200"/>
            <a:ext cx="1152720" cy="444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8186760" y="509904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755640" y="561816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614840" y="5632560"/>
            <a:ext cx="10368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257040" y="1619280"/>
            <a:ext cx="8629920" cy="36194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755640" y="4738680"/>
            <a:ext cx="2879640" cy="4446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67587" descr=""/>
          <p:cNvPicPr/>
          <p:nvPr/>
        </p:nvPicPr>
        <p:blipFill>
          <a:blip r:embed="rId3"/>
          <a:stretch/>
        </p:blipFill>
        <p:spPr>
          <a:xfrm>
            <a:off x="2219400" y="2100240"/>
            <a:ext cx="5362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6561" descr=""/>
          <p:cNvPicPr/>
          <p:nvPr/>
        </p:nvPicPr>
        <p:blipFill>
          <a:blip r:embed="rId1"/>
          <a:stretch/>
        </p:blipFill>
        <p:spPr>
          <a:xfrm>
            <a:off x="157320" y="762120"/>
            <a:ext cx="8829360" cy="561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611280" y="5834160"/>
            <a:ext cx="3384360" cy="4442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6563" descr=""/>
          <p:cNvPicPr/>
          <p:nvPr/>
        </p:nvPicPr>
        <p:blipFill>
          <a:blip r:embed="rId3"/>
          <a:stretch/>
        </p:blipFill>
        <p:spPr>
          <a:xfrm>
            <a:off x="2028960" y="2490840"/>
            <a:ext cx="5543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5537" descr=""/>
          <p:cNvPicPr/>
          <p:nvPr/>
        </p:nvPicPr>
        <p:blipFill>
          <a:blip r:embed="rId1"/>
          <a:stretch/>
        </p:blipFill>
        <p:spPr>
          <a:xfrm>
            <a:off x="219240" y="878040"/>
            <a:ext cx="8705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4513" descr=""/>
          <p:cNvPicPr/>
          <p:nvPr/>
        </p:nvPicPr>
        <p:blipFill>
          <a:blip r:embed="rId1"/>
          <a:stretch/>
        </p:blipFill>
        <p:spPr>
          <a:xfrm>
            <a:off x="928800" y="2619360"/>
            <a:ext cx="7286400" cy="161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5003640" y="2579760"/>
            <a:ext cx="1008360" cy="444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5724360" y="3125880"/>
            <a:ext cx="1008360" cy="444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6516720" y="368784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23920" y="1152360"/>
            <a:ext cx="8696160" cy="4553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4211640" y="1892160"/>
            <a:ext cx="936720" cy="317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580000" y="1906560"/>
            <a:ext cx="936720" cy="317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7093080" y="1906560"/>
            <a:ext cx="1224000" cy="31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908000" y="2933640"/>
            <a:ext cx="792360" cy="317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203640" y="293364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530280" y="360216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5580000" y="362592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8244000" y="4311720"/>
            <a:ext cx="649080" cy="317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539640" y="4653000"/>
            <a:ext cx="649440" cy="317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4572000" y="5329080"/>
            <a:ext cx="6494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9410" descr=""/>
          <p:cNvPicPr/>
          <p:nvPr/>
        </p:nvPicPr>
        <p:blipFill>
          <a:blip r:embed="rId1"/>
          <a:stretch/>
        </p:blipFill>
        <p:spPr>
          <a:xfrm>
            <a:off x="185760" y="1790640"/>
            <a:ext cx="8772480" cy="3276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359920" y="292428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8373" descr=""/>
          <p:cNvPicPr/>
          <p:nvPr/>
        </p:nvPicPr>
        <p:blipFill>
          <a:blip r:embed="rId1"/>
          <a:stretch/>
        </p:blipFill>
        <p:spPr>
          <a:xfrm>
            <a:off x="181080" y="917640"/>
            <a:ext cx="8781840" cy="5248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317080" y="1278000"/>
            <a:ext cx="360360" cy="317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6094440" y="450864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185760" y="2048040"/>
            <a:ext cx="8772480" cy="2761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5931000" y="409572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6324" descr=""/>
          <p:cNvPicPr/>
          <p:nvPr/>
        </p:nvPicPr>
        <p:blipFill>
          <a:blip r:embed="rId1"/>
          <a:stretch/>
        </p:blipFill>
        <p:spPr>
          <a:xfrm>
            <a:off x="219240" y="1014480"/>
            <a:ext cx="8705520" cy="4829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970760" y="2162160"/>
            <a:ext cx="505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530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267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970760" y="2408400"/>
            <a:ext cx="50508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6" descr=""/>
          <p:cNvPicPr/>
          <p:nvPr/>
        </p:nvPicPr>
        <p:blipFill>
          <a:blip r:embed="rId1"/>
          <a:stretch/>
        </p:blipFill>
        <p:spPr>
          <a:xfrm>
            <a:off x="237960" y="822240"/>
            <a:ext cx="8668080" cy="5486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135576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2231" descr=""/>
          <p:cNvPicPr/>
          <p:nvPr/>
        </p:nvPicPr>
        <p:blipFill>
          <a:blip r:embed="rId1"/>
          <a:stretch/>
        </p:blipFill>
        <p:spPr>
          <a:xfrm>
            <a:off x="233280" y="103356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028000" y="429264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5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